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C5BA-9C4A-48EB-839B-9315DD9A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6E8-0523-4AD6-8175-5CC9A237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AAB9-B716-4FBD-B5C8-22B2BE65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556-9435-433C-A1D6-F7DA547FD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98C0-D485-4633-BC8A-C512C823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CD6D-F16B-4982-A26F-EC075146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CD4C-C2FF-4159-A227-6C929F6A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5872-42E6-4A48-A1C6-680C8C7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80FC-E1A3-48D9-8CDC-E6F9E0A3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81E5-C676-46ED-A710-38E8E559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547-3DAA-42A0-B565-67245AD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7316-AE5F-4BF3-8D60-78D463E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72BD-0F6D-4C1F-B9F9-A79C125B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C602-96DF-4C93-A08A-FA7C7EC6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339B-DF11-4F1C-834F-8754789C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E939-6453-4BA0-B3C1-8806645A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138-967C-410C-A545-7F8647CF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68F-9769-4F8E-8CDE-22BDDF7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956-907D-4F1C-843F-9FDC5FAC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B9F-B1B2-48FF-BFB6-E6AD68858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557-0196-4FA2-B79B-B4165437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8DD-7839-4A56-921C-95B00363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3DF-545C-4C62-AF98-87024E27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762-3488-4DE2-AF96-90B546E0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3CE9-E661-4FDF-901A-18FFB0A46E0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6A73-22DF-4678-B135-40C6A16EA3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9efee"/>
                </a:solidFill>
                <a:latin typeface="Garamond"/>
              </a:rPr>
              <a:t>Effective Use of English as a Language through Reading and Speaking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. Fe Evangeline D. Sap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vin Jan L. Tach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N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s for listen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cess is just one step beyond fail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Unit Summa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course is designed to enhance the English capability of second year high school students. The activities for this course are as follows: interview, answering phone calls, instruction/direction reading. These are the activities that will target the two macro skills: reading and speak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FQ’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ssential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it important to learn the English Language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it Questio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English Language affects the second language learner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tent Question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are the kinds of sentence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iate noun from pronou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these subtopics relate to speaking and read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ision for Un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y creating this unit, we want 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still the importance of the English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explore ways on how to leave a mark about the two macro skills: Reading and Speaking on the minds of our stud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uring this unit, we want our students 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 ways to connect English Language to their daily l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tilize technology in relation to English Languag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ject Approach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our students work on this project, the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e the topic into their real life experi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operate with peers and community me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ve their selves to the real world situ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are their learning with real audi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21</a:t>
            </a:r>
            <a:r>
              <a:rPr b="0" lang="en-US" sz="4400" spc="-1" strike="noStrike" baseline="30000">
                <a:solidFill>
                  <a:srgbClr val="b9efee"/>
                </a:solidFill>
                <a:latin typeface="Garamond"/>
              </a:rPr>
              <a:t>st</a:t>
            </a: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 Century Lear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entury skills in this unit as the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ze the Essential and Unit Questions to guide their understanding on the less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lect on their reading and speaking performances and modify and acclimatize them as necessa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tilize project assessments for self-assessment and corrective feedba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Gauging Student Needs Assessmen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se CFQs to lear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ents’ ideas about the relationship of English Language to reading and spe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ckground knowledge of parts of speeches such as: noun and pronoun; kinds of sentences and inton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sess 21st Century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to see the interrelatedness of the given topics to reading and speaking activ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9efee"/>
                </a:solidFill>
                <a:latin typeface="Garamond"/>
              </a:rPr>
              <a:t>Gauging Student Needs Assessment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e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cus on parts on the technicalities of the language students have prior misconceptions abou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epare activities in which they will answer their ques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udents can use the information from these assessments t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 their reading and speaking skills in line to the standard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intentions for how they will adjust their reading and speaking sty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9efee"/>
                </a:solidFill>
                <a:latin typeface="Garamond"/>
              </a:rPr>
              <a:t>Requests for Feedbac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ways to help students understand the applications of basic grammar to reading and speak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help assessing students’ higher-order thinking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9:18:51Z</dcterms:created>
  <dc:creator>nave1386</dc:creator>
  <dc:description/>
  <dc:language>en-US</dc:language>
  <cp:lastModifiedBy>Student</cp:lastModifiedBy>
  <dcterms:modified xsi:type="dcterms:W3CDTF">2007-06-20T04:41:12Z</dcterms:modified>
  <cp:revision>4</cp:revision>
  <dc:subject/>
  <dc:title>Effective Use of English as a Language through Reading and Speaking </dc:title>
</cp:coreProperties>
</file>